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A9F0-A16B-4C29-8540-1A1B55CA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EBA-6F9E-4D2F-B91E-A46884C1A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D2B1A-6F58-42DF-A921-75F39BDB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0C478-91D2-49E7-BB31-F6816148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050607-34B7-47AE-B9BE-3090C674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B3D1A-D64C-4AB9-BCE4-453973B3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9DEFF-580F-40D2-A2B3-21BC6C34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A2B766-DDD4-4667-BC59-D90A7632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0B568-4A96-4236-8F4C-CFDF7445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99FF6-B0EA-4406-9531-3D8DF508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11BFB-54AC-42D3-B7CE-773A97113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41A9E-CCDC-4646-9130-7E4609D2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0FAB-7787-434D-AB85-A5722F2B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1EB27-1614-4C58-A978-5108E68B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FB1808-FDB5-46CB-98FA-DB3FD808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6851F-8B59-45B5-8AD7-21F8FE2D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FC8C0-E11D-4381-AF4A-320D8EE7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07BD0-2D2B-48D0-ACA8-C5A13611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0B943-1AB1-4948-8961-5D909425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A4DE9D-A8B3-4689-8DB5-318A21C0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2177C-FEC4-4FEE-849C-87CB6BBD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CF6DE-1D16-497D-8BFE-566C5A7A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8BD8E-1AF2-4E47-BB3E-D3FABA3B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CE2-3B9B-44FD-8759-B60F775D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949B8-4BFF-487A-810B-0D17E933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4F121-727E-476F-9026-0CF2E396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D1583-8DB3-44BC-B93D-5900B0137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1F76B-A219-4C82-8147-FF537D96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C89A1-C886-4589-9565-CAE9EAFA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461C0-CA10-4C24-A965-C3C0BCDA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52F25-0AB8-4785-92ED-F7B8AABF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20ADB-C439-4AB9-931F-761DF066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F7C52-8F59-4432-A467-DFE669B4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208EC-0AA2-4EA3-9284-53C66800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73D8-6461-45B9-B016-226D9871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73B8E-CD1C-432D-84CE-85FB6C9E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90733-2E91-46D1-ACC7-850D713C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7FCB6-E4C1-48B3-876B-E6CD9C4D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F543D-26FD-4ED3-A1A2-33362B68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7E2D7C-1D79-444D-91B7-8DCC92EB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97EEE-2083-4FBC-9017-860448D9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7B592-9332-4F1D-9035-578A8573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BB569-01B2-4CC3-A220-1EB74F9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55FE3-6F66-4CA6-96E0-F8EF97C8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0CA2B-58C6-453E-A227-61D2D9AC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6CB3-33D6-4403-9F21-56D8D56D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4E8AC-D355-40CF-80FF-FEF9E54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F00DE-BAC0-4748-A42A-C4B3E000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B01C5-EB53-4F19-8E2B-6965047C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71084-F03F-481A-8ED9-9E2E5806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19EEB-3D92-4E9C-B5AE-F1710818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17037F-2F2C-4A00-9D60-513BEB31D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88A09-4E21-452A-B0AD-EBA3ECBE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5D124E-2CB0-44E0-949B-574BBC60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A3F3FD-1A9E-4EED-BF75-86FF228E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91B63-ECF4-44D0-B28E-9C97789E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7B072-5D3C-4275-A900-668F4805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D8E7D-057B-4738-BA2A-C412BAA3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2048FE-2BCF-4E28-BBD9-F1ABA53D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EB4A6-4323-45DF-A6A6-981BB5EE9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B96561-677E-4144-A3FC-9E77EABE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1446C-50C1-485D-AFC9-084065D8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B1548-A86D-4A3D-A7C0-1983C4AD7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1E501-A27C-4AD9-8F6F-941F5305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24CCA-A26E-418B-A946-DE4EDAE7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C5C01-3B89-4692-9F8F-AB0DE952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80D65E-BE80-4146-86BC-50ADE9CC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20D0-1772-4622-8BE7-6EDC39A6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0EB6F-108C-4B8A-8897-9FE9FEA2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171B2-6661-4733-8451-A880FF90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EAF3A-5A9A-4EE2-A2D5-9265DDFC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30D98-BF5D-4A9F-9B2E-F7FAE6D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5D7AC8-FFB6-4480-ADE4-980DE962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B9F333-F389-4E6E-AB4D-5F6DC7A1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60FFC-7DA5-4D1A-B5AB-485DED34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A4C283-E506-446E-BA5A-A28546A09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44CF0E-54CC-4044-A02D-6A9A394E8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B1559D-F9C9-4991-9871-E50DB78C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2F95-0135-4578-813D-CF26ADA8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F9BE03-C536-4695-88A6-21E310D6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077A9B-70E5-44EB-A314-53ABD072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7C57F0-B403-4279-B77C-AE31D3F5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8CF76A-7F9A-4D3F-BBA8-9B1EC359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5494A-BE9B-4C54-991D-DDDF628B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2994C-0C04-498E-9141-B2354E5F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59D29-B884-4BA6-A5D4-A6292B3A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2C09F1-EAAA-4AC8-9EFF-C1222073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5F39B-B81D-4035-BC1A-146FA7FF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10AB39-6AB0-4DE6-A6A2-19D7E7201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E663-621D-4759-9414-1B28DD8F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43A5F-0ED0-4E75-838B-5D291DE1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D8DF7F-EC7E-4CBE-BF1C-A4D09066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DD9EE-134D-42BC-A0CD-DE3C68512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890070-12E9-4E9D-BE6D-9A43512E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6D4A9-19D2-4514-8AB0-3EEAA63C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BD0C5-B392-4159-B101-2B0371A7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879BC-4847-4F01-9769-DF483ED7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B9933-A2BC-4DB7-B5C4-3B20306E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32B07-1CDB-4906-B268-DA6A6D92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E7731-729B-4B3B-B636-2A34F502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B5F6-5521-4638-8163-31E28EB9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746244-85F7-4399-9D18-406319CD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C8865E-4A17-401C-ADFF-F7460571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194542-7F4B-410D-9CBA-D0FC225A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82D49-D75B-4DCE-BFF4-3D468161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570140-E2D5-404C-A8CE-50D97F6D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203D74-25A4-4855-980D-749B42BE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1D5C9-6FF8-44E7-A314-0C2743D9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B022E-E1CF-4257-AE7E-F1B07FA8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2484FC-9521-493B-AF1B-758317B3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67E12C-4519-45BA-95B1-B09DDDBE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A84-4E16-457E-91B4-0B9C4F4B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6AB9-A568-48B6-AF82-EEDB8259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7967D3-B352-4FEF-A678-DE98224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66679-34EB-485C-9A88-99D8CAB9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442845-545E-42D5-B408-9BC58CE5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9070AD-5B0B-4DD3-9038-42CC9515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F162AE-CC3E-4AB9-9BC6-E27DC20F7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0482BB-D0D6-4C7E-BF5B-AD4755911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AC518-D231-4438-9356-FFACA4A8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548D1-0245-4768-BD08-C184BB4D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1C579-D53A-446A-AADB-BA3E8C61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2D98F-78F5-472A-B8E9-460F15CE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6D09-288E-4407-9B4F-0930DF9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11304-EC6D-401E-A11C-132790D0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A7B5AC-A7D0-4002-B4F3-39AA34BA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6DB24C-4F56-47A2-81CB-F416B30A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10B66F-EE2B-4AD3-A257-23B5614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E27A7C-DF88-4940-A0B0-2D42EBE5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71FB0-0ADE-44FA-817D-A04FE6C08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3A45A0-6723-417E-9CC6-FA0B30BD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99F62E-BBB9-4C1E-BA76-B8529CBC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EDCC25-676C-4201-9D1E-7AAB2EAD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9B889-43F8-4F74-8A75-DA160793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87D9-C686-4F77-B827-60B8A205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6D2C47-D54C-4591-81DF-A1C262F3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1047A-4308-4353-A2A2-4A3C6B8B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4C2497-47F2-4D16-845B-66622C35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0874FA-3CDB-4F79-A923-BC9FCB17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1F2266-B55A-481F-A776-12379241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51D16C-C994-4A36-8B44-159D8BAB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8D66F0-4397-4DEB-A48A-7AABEF73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C0988C-34CC-4310-A2FC-A1D5578B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247ED5-8C3C-4F31-A899-D213A374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DBDFD5-1D76-4579-86D4-D5E8C0E1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07D90-8C9E-44DC-BA85-2D07475E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8F5CDE-29E9-4D05-A816-8C019309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A50C70-5790-476C-A4D7-5797489C3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F97BB-12FC-4E4A-9A0B-1D1EDA15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6B9ACA-214F-43C8-9FB6-972DDF81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A92E7-496D-4CD9-B4C0-159CCB6B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FD653A-EA94-429C-89AB-D141FDD2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65C5AB-281B-49F9-BEDE-51B57910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9AFC78-C816-464B-821D-20212E3B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3340C4-6548-4D1A-8961-D20BC4E6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0F4529-7603-4AF1-A2A2-8F8EA259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BC67-0D08-4CA3-BA2E-784F40FC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B5D594-BD2A-4F24-90FD-D21DC6A7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F388FA-5B18-4D02-B0B6-BF47A997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675615-23FC-4525-A761-9FA7574A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E7EFE5-205F-4DFA-ADD2-29D08138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6922DC-CE04-489D-8319-EA4DD307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C99BB6-B0EB-4D6E-8334-B59C4083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09452C-ED83-4153-B1F1-AF06D123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4BBE7A-32A5-470F-8DA2-0A873E68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BF589B-AED5-4BE9-8DC6-316B35CA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9210F-236C-42DD-9A56-CA2580E4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6F6C3-3164-454D-A513-5E5C526A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3B968E-4C27-4E44-B903-F99A974A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6B58F-35BD-4D49-9049-0B6D4245D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1644B5-73B6-4A57-86A7-33D86900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03C12-ADE6-4C5D-953A-C95902A2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E71A-3892-45B7-80DE-A7656160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5FBBB-2A32-4DEC-B29D-4EF08484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B27F-2F07-4E9D-A6E9-45D89838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1EFE-36A8-4D34-B4A0-13F7A4C6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EE7A-229A-42F8-8CDD-E16A698C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D28C1-E064-4901-8ECB-F0D3D61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55FB6-6FF2-42E9-8E12-4338D297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5CCF-0D05-44EC-B557-0D087900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8A1CB-5CBF-4EE5-9B4F-22E25A15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9E8C9-4D21-4E02-AF18-C9836D85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64018-21D2-4164-9D21-BA841A0D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3C6C8-2B57-4ED6-AB78-BF063F31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1C849-912D-443C-B21A-306133F4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9C4F8-E551-401F-8D21-0FF8A923F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9040-DE0C-472B-A26D-5BF7A47D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E821-A50E-4AD2-B568-B0861BCA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401F-39B8-4108-AD3B-9BF896C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65D22-19F1-469E-8763-64CE4750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EFCE7-70D7-4927-AB36-67AAD411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65507-9DB7-43C1-A36E-16858A99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4C60E-C754-413F-A98B-8FDC4C8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F995C-C101-467F-B486-41C2FBC0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CB7D5-8D39-45F3-B6D4-E5E7A44C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4C64A-2857-46D9-8BE4-881871B7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433A-58BB-4BA8-A521-152C4ACA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BF3C-D195-4CA5-95D3-BC1DF946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FFAA1-1BB9-41B6-B5C5-872DBB29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3749D-25B4-4B63-B004-E3A7EFAA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07072-7949-4E4D-A9FE-4403AE78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FA4A5-0E29-4165-B347-EC9EF06B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BBE4E-FC22-45D8-89D0-CB2EFD6F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E4069-33FE-4DCE-A4B9-7DBD152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CB280-ED1A-4CC4-9F0E-12BD11CA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CF8BA-5507-46AD-AC5E-33A0E3D6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50702-9E48-44E9-ACAA-26E5EEE0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8674-7D6F-4673-8213-4513EE5E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2BD0-369F-4356-A463-75BED646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BFA8C-FE1A-4E5D-AFE2-FF83494D6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98F68-83BE-47DC-A379-4D40FF32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4DD9B-E9D1-45EA-BD09-D77CEAAB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5233-9003-4F3A-93B6-35653909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2B407-6F0C-472A-A133-5996BDEC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B72E-6370-4A37-8946-D52C0B04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3D4C7-2A34-4DF2-91EE-1A4F6718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5880B-E099-42CB-B44C-5871DD03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482C3-E72C-43E7-A352-D8EE3D3A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7BCC-8371-48F6-8D30-0387E41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549-CE37-4AE3-A9FC-F9C59AE2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17C9F-70E5-4F2F-BC19-3B493E90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DC31-9AA5-42A1-9E1E-B2E57813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949B4-6F6E-48CA-9F2A-1C4427EF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72DA7-2AB9-4F66-826F-7654E6AF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927C3-BAA6-4575-8959-40211905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ECC63-1F87-4B1C-ABDC-FFEC3870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B4CDE-E091-405D-B330-0EB7D4108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A39DA-50B8-4F60-80D0-FE923BB2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B6CD2-BD5F-4E58-AF9F-CE1B2B73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EDBBE-942D-42E8-B6BA-B7F6FF40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838-260C-4D49-A045-B96E9F8D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CEC28-BE32-476B-BC14-34971CD1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7768A-A87D-464A-AAAD-8C845047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54FA9-E106-465E-BF7E-761B7BB7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90880-ACE3-4824-8369-1186CDC0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84006-943E-4B39-A1B3-280F0D928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0F107-3A5B-4463-8395-3E3A8EFA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BD3B6-645B-4F96-9752-31286387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8B528-8637-42A6-8A95-BDED8E4C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C8A8F-B993-4127-891B-0403CBAC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92309-70E8-41E1-9FDC-2620D87F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A2A-D0F3-407A-8248-69770A4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482EF-642D-4695-B635-494B111B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B67DD-9E74-45ED-8FE0-52F25FA8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03910-6811-4349-8C43-3E23696F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FE428-B55F-4BA9-AE47-27703B0A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48AB6-5381-45D1-ABCE-DC268376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2980D-8698-45FA-8C17-39423182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4F8B7-E6B6-4E73-9902-CC359E9C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848A2-39FF-4B35-A19E-A7749CD4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E17B2-9E6A-4109-B298-BF98039E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FA165-C2FA-484E-83CA-AA1C374AC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E2E9-BC11-469D-A783-932E5D34E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73D1-DDFA-4DE8-AB18-0028DBC93E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1061-9674-445A-B1AC-86247517C2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409F-E405-4F55-9E9E-3E720C6A98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1B4D-14F4-4909-877A-C945129EBD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0B87-0A88-47DC-82A6-3071231169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C616-63B5-4858-B30E-A231431D2B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835D-995A-43C4-BF2B-4C70897BE9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6701-D510-4F52-AF44-BE3E3EDD85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91B4-3D38-453D-90D9-3A9938212F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875C-664E-4754-AF25-7C8B180C81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3DE5F-6BD6-48E8-9300-73625A0F10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0014-2779-4201-BEA3-C80FD22566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0216-462D-4902-A349-8CFEDDCBCA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9A0F-D145-4BFD-8E8F-78F1E9F49A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1CB3-1ABB-4F84-8A16-28997552CB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4812-5111-4323-9526-1108AA9DB9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FDA-2814-42BA-8A94-914848F8D5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F25D-E700-49FD-9402-B56C2B3A4D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9391-C198-4B3D-B95D-46A9A6323E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3CF8-E696-45F0-9538-F03C161416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951D-7A87-4AD2-B502-32BF9C7411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850E-953B-4FB1-995E-0DA9FD6457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3A9E-C188-4323-B64A-0EB6441D43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F500-61D8-4918-87EA-BFB2611AA2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A387-6D26-4689-AE6A-20F8617920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78D1-8FA5-4585-99B2-A16B4B0470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D64D-9E6E-4C93-BA5B-6EF2B4C1F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0608-9EB3-48DB-8B4D-62AE41B1F5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2B04-9DB3-4BC1-A26B-E39D2A4FA4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6CF7-AF0F-470F-B4A0-EA8B8A0221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1B85-8931-4886-9F8B-CCC6DA9562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9A9E-56B2-4579-9888-D42041C273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5E3B-E1A0-4D7B-9125-551170D78D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CCB5-07AE-489C-8F35-357E1EE026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0DC9-FC3E-4B3E-B62F-F2658AEDF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16B-89DD-4548-8C33-8952C7B13F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96AB-8E55-413F-9806-A83494EADE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6E44-BAFE-4215-AA63-7346E998A9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7C25-DED6-4281-ADA5-9D4B964B02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62000" y="3038400"/>
            <a:ext cx="88200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809640" y="1195560"/>
            <a:ext cx="7524720" cy="44668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118728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1187280" y="3213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5"/>
          <a:stretch/>
        </p:blipFill>
        <p:spPr>
          <a:xfrm>
            <a:off x="1116000" y="4076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6"/>
          <a:stretch/>
        </p:blipFill>
        <p:spPr>
          <a:xfrm>
            <a:off x="1116000" y="5084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542880" y="1014480"/>
            <a:ext cx="8058240" cy="4829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547640" y="206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47636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547640" y="364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547640" y="443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547640" y="5300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200160" y="1066680"/>
            <a:ext cx="8743680" cy="47246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187280" y="206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187280" y="4508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571680" y="947880"/>
            <a:ext cx="8001000" cy="53989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900000" y="2565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19240" y="1023840"/>
            <a:ext cx="8705520" cy="48103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7885080" y="19749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7308720" y="2781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7020000" y="35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7164360" y="4365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7164360" y="51721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633240" y="1657440"/>
            <a:ext cx="78757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81080" y="880920"/>
            <a:ext cx="8781840" cy="50961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1187280" y="4365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533520" y="561960"/>
            <a:ext cx="8076960" cy="60944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826920" y="1125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900000" y="50418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209520" y="633240"/>
            <a:ext cx="872496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2:35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